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004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2720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84400" y="6286680"/>
            <a:ext cx="54000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11148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5686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695760" y="6276960"/>
            <a:ext cx="2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633744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HlogoforPresPro" descr="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" name="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" name="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6720" y="0"/>
            <a:ext cx="2552760" cy="90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543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0040" y="517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entation P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HlogoforPresPro" descr="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480" algn="ctr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5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5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package" Target="../embeddings/oleObject1.docx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9.xml"/><Relationship Id="rId12" Type="http://schemas.openxmlformats.org/officeDocument/2006/relationships/image" Target="../media/image1.jpeg"/><Relationship Id="rId13" Type="http://schemas.openxmlformats.org/officeDocument/2006/relationships/slide" Target="slide9.xml"/><Relationship Id="rId14" Type="http://schemas.openxmlformats.org/officeDocument/2006/relationships/slide" Target="slide15.xml"/><Relationship Id="rId15" Type="http://schemas.openxmlformats.org/officeDocument/2006/relationships/image" Target="../media/image1.jpeg"/><Relationship Id="rId16" Type="http://schemas.openxmlformats.org/officeDocument/2006/relationships/slide" Target="slide15.xml"/><Relationship Id="rId17" Type="http://schemas.openxmlformats.org/officeDocument/2006/relationships/slide" Target="slide3.xml"/><Relationship Id="rId18" Type="http://schemas.openxmlformats.org/officeDocument/2006/relationships/image" Target="../media/image1.jpeg"/><Relationship Id="rId19" Type="http://schemas.openxmlformats.org/officeDocument/2006/relationships/slide" Target="slide3.xml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slide" Target="slide15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slide" Target="slide15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slide" Target="slide15.xml"/><Relationship Id="rId6" Type="http://schemas.openxmlformats.org/officeDocument/2006/relationships/image" Target="../media/image1.jpeg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slide" Target="slide15.xml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slide" Target="slide15.xm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slide" Target="slide15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5680" y="6419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Arial"/>
              </a:rPr>
              <a:t>© 2001 by Prentice Hall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543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Magruder’s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American Governmen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C H A P T E R  8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ss Media and Public Opini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asuring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6760" y="88884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196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cc"/>
                </a:solidFill>
                <a:latin typeface="Arial"/>
              </a:rPr>
              <a:t>El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839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s who win an election are said to have a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man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 command from the electorate, to carry out campaign promises. In reality, however, election results are seldom an accurate measure of public opi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7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terest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839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nterest grou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rivate organizations whose members share certain views and work to shape public policy. Interest groups are a chief means by which public opinion is made kn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7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The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839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 are frequently described as “mirrors” as well as “molders” of opi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7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Personal Cont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839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fficials rely on frequent and wide-ranging contacts with their constituents, such as reading their mail, answering calls, and meeting people in publ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olls—The Best Measur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6400" y="2347920"/>
            <a:ext cx="430524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raw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traw vo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ethod of polling that seeks to read the public’s mind simply by asking the same question of a large number of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aw-vote technique is highly unreliable, howev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3040" y="844560"/>
            <a:ext cx="865512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 opinion is best measured by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public opinion po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devices that attempt to collect information by asking people ques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38760" y="2347920"/>
            <a:ext cx="43052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cientific P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efforts to take the public’s pulse on a scientific basis date from the 1930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now more than 1,000 national and regional polling organizations in this country, with at least 200 of these polling political preferen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olling Proces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89676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fining the Un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term that means the whole population that the poll aims to measur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structing a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s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representative slice of the total universe. Most professional pollsters draw a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andom s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so called a probability sample. A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quota s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ne that is deliberately constructed to reflect several of the major characteristics of a given univer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paring Vali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ay in which questions are worded is very important. Wording can affect the reliability of any p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lsters communicate with the sample respondents using various methods including person-to-person interviews, telephone calls, and mail surve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lsters use computers to store and manipulate data, which helps them analyze and report the results of the p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valuating Polls and Their Limit on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92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aluating Po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balance, most national and regional polls are fairly reliable. Still, they are far from per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problems with polls include their inability to measure the intensity, stability, and relevance of the opinions they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potential problem is that polls and pollsters are sometimes said to shape the opinions they are supposed to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6120" y="99036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 algn="ctr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mits on the Impact of Public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pinion is the major, but by no means the only, influence on public policy in this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of the American political system is designed to protect minority interests against the excesses of majority views and 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, polls are not elections, nor are they substitutes for ele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2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 straw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correctly predicted the outcome of the 1936 el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is a method of polling that asks a large amount of people the same ques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is a very reliable type of poll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measures the opinion of only the rural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To pollsters,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ve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a private organization whose members share certain views and work to shape public poli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all of outer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a probability samp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whole population that a poll aims to mea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Click Her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3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Mass Medi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80" y="1206360"/>
            <a:ext cx="885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mass media fulfill its role to provide the public with political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mass media influence poli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actors that limit the influence of the me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Role of Mass Medi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81756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49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eans of communication; it transmits some kind of information. Four major mass media are particularly important in American poli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93760" y="2206800"/>
          <a:ext cx="8537400" cy="36208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3760" y="2206800"/>
                    <a:ext cx="853740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dia Statistic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4280" y="825480"/>
            <a:ext cx="86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media varies from country to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0"/>
          <a:stretch/>
        </p:blipFill>
        <p:spPr>
          <a:xfrm>
            <a:off x="717480" y="1327320"/>
            <a:ext cx="768528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Media and Politic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2720" y="81720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Public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dia play a very large role in shaping th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public agen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etal problems that political leaders and citizens agree need government atten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34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not correct that the media tell the peopl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think; but it is clear that they tell the people what to think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0" y="882360"/>
            <a:ext cx="4229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9880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lectoral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television allows candidates to appeal directly to the people, without the help of a party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didates regularly try to use media coverage to their advant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scasts featuring candidates are usually short, sharply focused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ound bi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—snappy reports that can be aired in 30 to 45 seco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2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imits on Media Influenc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mall part of the public actually takes in and understands much of what the media have to say about public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media sources mostly skim the news, reporting only what their news editors judge to be the most important and/or most interesting stories of th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depth coverage of public affairs is available to those who want it and will seek it o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C H A P T E R  8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ass Media and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3240" y="1371600"/>
            <a:ext cx="79218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SECTION 1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The Formation of Public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SECTION 2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Measuring Public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SECTION 3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The Mass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1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3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3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hich of the following are major media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el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newspa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magaz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ll of the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cording to the chart on international media usage found earlier in this section, which media source is accessible to the most American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newspa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el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none of the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Click Her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1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Formation of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760" y="12952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ublic opinion and why is it so difficult to def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family and education shape public opi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dditional factors shape public opi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7840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ublic opin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described as those attitudes held by a significant number of people on matters of government and poli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What is Public Opinion?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3240" y="2543040"/>
            <a:ext cx="8610840" cy="36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793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fferent Publ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ed States is made up of many groups, or publics, who share common new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ublic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ublic affai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ose events and issues that concern the public at large.  In its proper sense, public opinion includes only those views that relate to public affa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blic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one public opinion can exist at the same time, because there are many publics. A view or position must be expressed in the open in order to be a public opin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olitical Spectru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970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ho have similar opinions on political issues are generally grouped according to whether they are “left,” “right,” or “center” on the political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5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0"/>
          <a:stretch/>
        </p:blipFill>
        <p:spPr>
          <a:xfrm>
            <a:off x="112680" y="2449440"/>
            <a:ext cx="8908920" cy="2768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amily and Educa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167760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first see the political world from within the family and through the family’s ey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ong influence the family has on the development of political opinions is due to the large amount of time children spend with the fami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71800" y="167760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h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acquire political knowledge throughout their time in the classro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 are taught about political systems, patriotism, and great Americans. Some are even required to take a course on government in high schoo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7080" y="797040"/>
            <a:ext cx="8810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factors influence our political opinions and political socialization over the course of a lifeti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ther Factors Influencing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8474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s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0600" indent="-179640"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ss m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those means of communication that reach large, widely dispersed audiences (masses of people) simultaneously. The mass media has a huge effect on the formation of public opin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0600" indent="-179640"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eer gro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made up of the people with whom one regularly associates, including friends, classmates, neighbors, and co-work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inion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0600" indent="-179640"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pinion l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y person who, for any reason, has an unusually strong influence on the views of oth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Historic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0600" indent="-179640"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 events can have a major impact on public opinion. The Great Depression is one event that shaped the political views and opinions of a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1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Public opinion is difficult to define 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everyone shares the same vie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re are many groups and issues to account f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no one is allowed to have opin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none of the ab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The mass media consis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friends and fami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neighb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newspapers, magazines, television, and the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peer group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Click Her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32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2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asuring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6400" y="914040"/>
            <a:ext cx="8877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allenges involved in measuring public opi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opinion polls the best measure of public opi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ive steps in the polling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allenges of evaluating po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limits on the impact of public opinion in a democra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20:30:29Z</dcterms:created>
  <dc:creator>Prentice Hall</dc:creator>
  <dc:description/>
  <dc:language>en-US</dc:language>
  <cp:lastModifiedBy>Pearson Education</cp:lastModifiedBy>
  <cp:lastPrinted>2000-02-11T15:28:41Z</cp:lastPrinted>
  <dcterms:modified xsi:type="dcterms:W3CDTF">2001-05-09T17:11:39Z</dcterms:modified>
  <cp:revision>200</cp:revision>
  <dc:subject>World History Lecture Notes</dc:subject>
  <dc:title>Economics: Principles in Action</dc:title>
</cp:coreProperties>
</file>